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F101-2610-477B-ABCD-6FFE219C9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8B5-3E80-4768-864A-850BE313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3BE5-EDFC-4C61-8BFE-7AE0E116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69B-C596-44AF-B886-3B531086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889E8-D39A-401B-B1A4-422BC82F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547B9-A0B6-499C-8949-39F3056C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5CCDE-7E48-4427-B3B4-02CC2347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DCBBE-29E3-4E42-9FCE-BF43AFCC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08C57-CAC8-409F-8FFD-C09229D6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7C4CD-932C-477C-BC15-3C64A6CE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F1D4F-ACB1-412D-ABBA-98E1E2CE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CDA-1C8A-4324-9092-ABBEB4D7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D038B-87C7-46C6-A37F-705E7CA9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175353-E0F5-46FC-87E4-852603E7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B2C07-4698-4895-B42A-EC064041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86AE3-23E0-41E9-ACE6-8990AC1A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585CE-2DE3-4E68-89D8-B9FE0588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61E-CFD0-4835-97E9-6972989E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0F9-E2F4-4EF6-BA9C-EB0CED30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C12-293F-4A3D-9E2C-9DD47785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F7D-59B9-40A5-B708-58B429E2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009-A7DF-4BA5-A408-1A016A4C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990-D038-4B47-A9EB-7AE58FF3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6DB-F666-40D9-A948-75347E1D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DF17-E340-4890-ABD5-C609829E06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5C45-6407-482B-BE08-F4CCA36D26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Беременность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это не патология, а естественный физиологический процесс, при котором организм женщины испытывает колоссальную нагрузку и потряс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192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0 недель б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льцы на руках и ногах уже имеют ног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лыш начинает двигаться в животе матери. Но она этого пока ещё не чувствуе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биение ребёнка может быть услышано специальным стетоскоп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сутствуют все важные органы челове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ают развиваться мыш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9138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2 недель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ёнок начинает глотать, почки производят мочу, кровь образуется внутри кост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вшиеся мышцы позволяют ребёнку делать полные движ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ны веки малыш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определить пол ребё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27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4 недель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формирована голова, руки и ноги челове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жа ребёнка выглядет прозрачн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инают расти волосы на голове ребё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я малыша становятся всё более скоординирован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6978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6 недель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жа ребёнка розовая, хорошо видны ушк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видны все части тела и лицо ребё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ыш может моргать, производит хватательные движения и открывает роти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олжает активно толкаться в животе ма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547640" y="692280"/>
            <a:ext cx="5977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18 недель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системы органов уже сформированы, и начинается период их рост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жа плода покрыта специальной защитной смазк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являются дыхательные движения, однако, их недостаточно для выполнения нормальной функции легк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этому времени мать начинает ощущать движения пл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 ребенка возможно определить с помощью УЗ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ременность делает женщину по-настоящему прекрасной, но период ожидания ребенка - это время, когда у будущих родителей возникает много новых ощущений, масса вопросов и страхов, связанных с течением беременности, родами, жизнью и здоровьем малыш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590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0 недель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тся пальчики, появляется некоторое количество волос на головке и тельц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бенок сосет пальчик и становится более подвижны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период быстрого развития головного моз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рдцебиение плода можно выслушать при помощи стетоскоп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инают работать поч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ако, у ребенка, появившегося на свет в этот срок, все еще мало шансов выжить вне утробы матер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52563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2 недели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сходит окостенение слуховых косточек, которые теперь способны проводить зву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бенок слышит маму: ее дыхание, биение сердца и голос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инают формироваться жировые отло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период интенсивной прибавки в вес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гкие развиваются настолько, что ребенок может выжить вне утробы матери, но лишь в условиях палаты интенсивной терап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таких детей возможны расстройства функционирования органов, что требует длительного нахождения в палате интенсивной терап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6337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4 недели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бенок реагирует как на внешние звуки, так и на звуки, возникающие внутри матки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аются рефлекторные движения, а движения тела становятся более сильны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олжают свое развитие легк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бенок теперь засыпает и просыпа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жа становится красноватой и покрывается морщинками и тонкими волосик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близительно восемь из десяти детей, рождающихся в этот срок, выживают (в палатах И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553440" cy="460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1042920" y="404640"/>
            <a:ext cx="676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6 недель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убы и ротик становятся более чувствительны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зки приоткрываются и способны воспринимать св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арактеристики мозговых импульсов сравнимы с таковыми у  доношенных де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оло девяти из десяти родившихся на этом сроке детей продолжают жить (в палатах 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6048360" cy="4897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1619280" y="620640"/>
            <a:ext cx="6192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28 недель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гкие способны дышать обычным воздухом, но помощь медиков все еще требуетс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бенок открывает и закрывает глазки, сосет пальчик, плачет и отвечает на внешние зву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итмичное дыхание и температура тела контролируются головным мозгом (центральной нервной системой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чти все дети, родившиеся с этими сроками, продолжают жить (с помощью медиков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Сколько продолжается нормальная беременность 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ьная беременность продолжается 40 недель плюс-минус две недели. Эти 40 недель гинекологи делят на три триместра: I триместр - до 12 недель, II - 12-24 недели , III - от 24 недель до ро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0642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0 недель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жа утолщается и и розове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величивается степень контактов между нервными клетками мозг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ерно с этого срока ребенок быстро раст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ти все дети, родившиеся в этот срок, выживают (с помощью медиков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763640" y="692280"/>
            <a:ext cx="575964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2 недели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шки приобретают свою форм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зки открыты во время бодрствования, а во время сна закры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жа ребенка гладкая и розов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ти все дети, родившиеся в этот срок, живут (только некоторым необходима медицинская помощ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6408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4 недели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осы на голове становятся шелковисты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растает тонус мышц, и ребенок способен поворачивать и поднимать голов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ти все родившиеся в этот срок дети продолжают ж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192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6 недель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гкие разви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вается хватательный рефлек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 реагирует на источник све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чти все дети, родившиеся в этот срок, жизнеспособ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7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27416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38 недель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ст ребенка (от головы до ягодичек) составляет 30см, а полный рост – до 50с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с – от 2,6 до 4к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моменту рождения у ребенка развиты более чем 70 разнообразных автоматических рефлекторных движений, необходимых для выжив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бенок достаточно развит и подготовлен к рожд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85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БЕРЕМЕННОСТЬ: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азвитие плод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4 недели берем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 ребёнка сформирована голо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уются сердце, ручки и ножки. Устанавливается кровообращение, которое видно на ультразву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уется мозг и позвоночн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"/>
          <p:cNvPicPr/>
          <p:nvPr/>
        </p:nvPicPr>
        <p:blipFill>
          <a:blip r:embed="rId1"/>
          <a:stretch/>
        </p:blipFill>
        <p:spPr>
          <a:xfrm>
            <a:off x="4648320" y="836640"/>
            <a:ext cx="4038480" cy="5259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403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6 недель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дце теперь имеет четыре отдел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уются пальчики на руках и нога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флекторная активность начинается с формирования мозга и нервной систе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чинают быть видны глаза, уши, челюсть; формируются лёгкие, желудок и печ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5688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8 недель беременности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тствуют все важные части тела ребёнка, хотя они ещё не полностью сформирован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заметны глазки, уши, руки и ножки ребё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олжают формироваться мышцы и скелет ребё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рвная система всё более усовершенствовае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4:26:16Z</dcterms:created>
  <dc:creator>USER</dc:creator>
  <dc:description/>
  <dc:language>en-US</dc:language>
  <cp:lastModifiedBy>Елена Олеговна Сафонова</cp:lastModifiedBy>
  <dcterms:modified xsi:type="dcterms:W3CDTF">2023-02-09T12:38:14Z</dcterms:modified>
  <cp:revision>13</cp:revision>
  <dc:subject/>
  <dc:title>Материнство в радость</dc:title>
</cp:coreProperties>
</file>